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6C8-E03F-440B-B2F3-99725EEB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C28-B15B-49F2-AB43-F99E2777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A69-AD20-4286-AFD6-4F4CB8EF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44B-FD1C-4177-9081-9465EA01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CA1-DE7A-4C1C-8533-B39DCED2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CAE-22D9-4834-B2F9-443644A9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B24-15A2-418B-8FCE-D3C75E2A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34D-3D7D-4760-B191-146E811A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061-2E86-4DC7-A62B-777DEED4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87C-7114-475E-93B3-63E87E49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17E-F843-4147-83AE-6F5667B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2BA-5735-4600-9082-89CE01D7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CEB-2F26-454B-9E66-E0BBEDDBA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BEP MEI Épreuve EP1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Intervenir sur une chaîne d’action ou d’information et surveiller un équipement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Coefficient 7  durée 4 h maxi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49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6600cc"/>
                </a:solidFill>
                <a:uFillTx/>
                <a:latin typeface="Bradley Hand ITC"/>
              </a:rPr>
              <a:t>Support </a:t>
            </a:r>
            <a:r>
              <a:rPr b="1" lang="fr-FR" sz="3200" spc="-1" strike="noStrike">
                <a:solidFill>
                  <a:srgbClr val="6600cc"/>
                </a:solidFill>
                <a:latin typeface="Bradley Hand ITC"/>
              </a:rPr>
              <a:t>: PALETTI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6600cc"/>
                </a:solidFill>
                <a:uFillTx/>
                <a:latin typeface="Bradley Hand ITC"/>
              </a:rPr>
              <a:t>Objectif global :</a:t>
            </a:r>
            <a:r>
              <a:rPr b="1" lang="fr-FR" sz="3200" spc="-1" strike="noStrike">
                <a:solidFill>
                  <a:srgbClr val="6600cc"/>
                </a:solidFill>
                <a:latin typeface="Bradley Hand ITC"/>
              </a:rPr>
              <a:t> mise en œuvre des procédures lié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838080" y="3962520"/>
            <a:ext cx="7620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radley Hand ITC"/>
              </a:rPr>
              <a:t>A une activité de réparation ou d ’amélioration par échange standard : dépose/repose d’un sous ensemble ou composant situé au sein d’une chaîne fonctionnell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radley Hand ITC"/>
              </a:rPr>
              <a:t>A une activité de surveillance de l’équip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WINDOWS\Bureau\smile aubry.gif"/>
          <p:cNvPicPr/>
          <p:nvPr/>
        </p:nvPicPr>
        <p:blipFill>
          <a:blip r:embed="rId1"/>
          <a:stretch/>
        </p:blipFill>
        <p:spPr>
          <a:xfrm>
            <a:off x="8043840" y="76320"/>
            <a:ext cx="1023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BEP MEI Épreuve EP1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Intervenir sur une chaîne d’action ou d’information et surveiller un équipemen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33cc"/>
                </a:solidFill>
                <a:uFillTx/>
                <a:latin typeface="Bradley Hand ITC"/>
              </a:rPr>
              <a:t>Problématique 1 :</a:t>
            </a: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 Le système refuse de fermer la pince qui permet de saisir les 2 car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33cc"/>
                </a:solidFill>
                <a:uFillTx/>
                <a:latin typeface="Bradley Hand ITC"/>
              </a:rPr>
              <a:t>Travail demandé :</a:t>
            </a: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 échange du solénoïde du distribu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57200" y="38419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cc"/>
                </a:solidFill>
                <a:uFillTx/>
                <a:latin typeface="Bradley Hand ITC"/>
              </a:rPr>
              <a:t>Problématique 2 : </a:t>
            </a:r>
            <a:r>
              <a:rPr b="1" lang="fr-FR" sz="3200" spc="-1" strike="noStrike">
                <a:solidFill>
                  <a:srgbClr val="0000cc"/>
                </a:solidFill>
                <a:latin typeface="Bradley Hand ITC"/>
              </a:rPr>
              <a:t>opérations de surveillance mensu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cc"/>
                </a:solidFill>
                <a:uFillTx/>
                <a:latin typeface="Bradley Hand ITC"/>
              </a:rPr>
              <a:t>Travail demandé : </a:t>
            </a:r>
            <a:r>
              <a:rPr b="1" lang="fr-FR" sz="3200" spc="-1" strike="noStrike">
                <a:solidFill>
                  <a:srgbClr val="0000cc"/>
                </a:solidFill>
                <a:latin typeface="Bradley Hand ITC"/>
              </a:rPr>
              <a:t>Réaliser les contrôles des</a:t>
            </a:r>
            <a:r>
              <a:rPr b="1" lang="fr-FR" sz="3200" spc="-1" strike="noStrike" u="sng">
                <a:solidFill>
                  <a:srgbClr val="0000cc"/>
                </a:solidFill>
                <a:uFillTx/>
                <a:latin typeface="Bradley Hand ITC"/>
              </a:rPr>
              <a:t> </a:t>
            </a:r>
            <a:r>
              <a:rPr b="1" lang="fr-FR" sz="3200" spc="-1" strike="noStrike">
                <a:solidFill>
                  <a:srgbClr val="0000cc"/>
                </a:solidFill>
                <a:latin typeface="Bradley Hand ITC"/>
              </a:rPr>
              <a:t>caractéristiques du système afin de réaliser la production en respectant les critères de sécurité, de qualité et de productivité opt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C:\WINDOWS\Bureau\smile aubry.gif"/>
          <p:cNvPicPr/>
          <p:nvPr/>
        </p:nvPicPr>
        <p:blipFill>
          <a:blip r:embed="rId1"/>
          <a:stretch/>
        </p:blipFill>
        <p:spPr>
          <a:xfrm>
            <a:off x="8043840" y="76320"/>
            <a:ext cx="1023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BEP MEI Épreuve EP1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Bradley Hand ITC"/>
              </a:rPr>
              <a:t>Intervenir sur une chaîne d’action ou d’information et surveiller un équipemen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33cc"/>
                </a:solidFill>
                <a:uFillTx/>
                <a:latin typeface="Bradley Hand ITC"/>
              </a:rPr>
              <a:t>Compétences visés :</a:t>
            </a: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1.4 : Transmettre à l’écrit ou à l’oral des informations et des donnée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1.5 : Analyser son intervention et l’envir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2.1 : Remplacer ou installer un sous ensemble, un composant sur un équip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 2.5 : Organiser sa zone de trav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Bradley Hand ITC"/>
              </a:rPr>
              <a:t>CP2.7: Exécuter des opérations de surveil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WINDOWS\Bureau\smile aubry.gif"/>
          <p:cNvPicPr/>
          <p:nvPr/>
        </p:nvPicPr>
        <p:blipFill>
          <a:blip r:embed="rId1"/>
          <a:stretch/>
        </p:blipFill>
        <p:spPr>
          <a:xfrm>
            <a:off x="8043840" y="76320"/>
            <a:ext cx="1023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1T23:32:02Z</dcterms:created>
  <dc:creator>MOUTONS Pierre-François</dc:creator>
  <dc:description/>
  <dc:language>en-US</dc:language>
  <cp:lastModifiedBy>Fabienne</cp:lastModifiedBy>
  <dcterms:modified xsi:type="dcterms:W3CDTF">2008-12-11T10:46:59Z</dcterms:modified>
  <cp:revision>5</cp:revision>
  <dc:subject/>
  <dc:title>BEP MEI Épreuve EP1 Intervenir sur une chaîne d’action ou d’information et surveiller un équipement</dc:title>
</cp:coreProperties>
</file>